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E0667-7FDE-44E6-96E4-D41CBE17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F3F1E-65E8-449B-B57F-5DA9E7C4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6716E-D59A-4178-B574-DA0B5A22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157A1-CFBC-4659-8F3C-4F8FBA98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A692-E675-4755-AB03-D2ACC6F0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B452-FDE3-48B7-B0E8-50A8CE7A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91E6-ED65-45A0-9EEA-085133B6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E53A-AA0D-49AB-91CA-5C1DA90E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6FCF-6D4B-4FE9-8DC2-E32F370F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C585-564D-4760-B08C-94360B8F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8246-A587-4866-8CF8-35813018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A30BA-B59A-41CA-8B4F-2EE60BA2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9368-4C7E-44BF-B076-7C33BA38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79D8-32C3-4988-87E6-3C9FA948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B0CF-951A-4431-86E2-DF02125C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E24A-346C-4882-82E5-54D68147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15E9-9E2A-4C46-9F89-05887457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3033B-33A0-443F-A274-55A3F69F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1BDA4-9B12-4317-905D-EBBD8A8E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4CBE9-94BA-4F90-9C2E-A6D4B47E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90135-68EA-42C8-9BD7-E755E4F9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4225A-D0AA-41BD-AFED-CE48F6DB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4B02E-2BAF-4CEE-A34B-DDE4ECD0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E3599-0826-4187-993C-B56AC189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7D37-C9FE-403C-8929-2946D829E49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8D34-E8FA-44F2-A474-E8DCEA5CA06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40760"/>
            <a:ext cx="11279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8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3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ед една седмица трудн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делата на тоз свят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тигнахме почивка чудн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ден благословен и свят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дост и блаженство дав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къп е дар от Бога мой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душа ми освежав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него имам аз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00584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мо шест дни да работим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определи за на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едмия пък да осветим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повяда Той тогаз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не първий ден, неделя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покой е отреден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ки трябва да отдел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ят за Него седмий ден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596880" y="575640"/>
            <a:ext cx="76150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дам съботата в ра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ази, също и Христос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жиите слуги до кра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едват този пример прост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чко може да пропадн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законът е без край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то събота ще падне - 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я ще трай и в вечний ра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2-19T07:34:41Z</dcterms:modified>
  <cp:revision>22</cp:revision>
  <dc:subject/>
  <dc:title>Slide 1</dc:title>
</cp:coreProperties>
</file>